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B8B9-8A62-4A70-98F6-E77F60B7E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Header Placeholder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DB3-4E71-41B8-B399-388773F4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3AA-55C2-4EE9-B723-74240206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F41-67DD-417E-84B9-DFFBD39D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989-2B55-4E26-A313-D55B58EE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88A-F936-4471-852F-FBF545D6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D15-A2DE-48AD-A044-CD19F99A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77E-BACB-4525-A0B5-7AAF8BB6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C5A-DF79-460F-92A9-258640CD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687-0608-4EE7-95D8-54640946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C84-2860-4D73-B545-6636FFF6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24C-934A-41EC-81DD-5F99C2DD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34F-6D26-4B43-B731-8151C5DB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AFEC-0EE3-4817-9230-45C7AF7B3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Les quatre sais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Natalie\Desktop\photos trains\un aeroport.jpg"/>
          <p:cNvPicPr/>
          <p:nvPr/>
        </p:nvPicPr>
        <p:blipFill>
          <a:blip r:embed="rId1"/>
          <a:stretch/>
        </p:blipFill>
        <p:spPr>
          <a:xfrm>
            <a:off x="457200" y="1676520"/>
            <a:ext cx="3236760" cy="2165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Natalie\Desktop\photos trains\un aeroport.jpg"/>
          <p:cNvPicPr/>
          <p:nvPr/>
        </p:nvPicPr>
        <p:blipFill>
          <a:blip r:embed="rId2"/>
          <a:stretch/>
        </p:blipFill>
        <p:spPr>
          <a:xfrm>
            <a:off x="4724280" y="4191120"/>
            <a:ext cx="2887920" cy="2165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Natalie\Desktop\photos trains\un aeroport.jpg"/>
          <p:cNvPicPr/>
          <p:nvPr/>
        </p:nvPicPr>
        <p:blipFill>
          <a:blip r:embed="rId3"/>
          <a:stretch/>
        </p:blipFill>
        <p:spPr>
          <a:xfrm>
            <a:off x="631800" y="419112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Natalie\Desktop\photos trains\un aeroport.jpg"/>
          <p:cNvPicPr/>
          <p:nvPr/>
        </p:nvPicPr>
        <p:blipFill>
          <a:blip r:embed="rId4"/>
          <a:stretch/>
        </p:blipFill>
        <p:spPr>
          <a:xfrm>
            <a:off x="4572000" y="1700280"/>
            <a:ext cx="323676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Il y a des nuag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Documents and Settings\Natalie\Desktop\WEB_CHEMIN_809_122519250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Il y a du brouillar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Documents and Settings\Natalie\Desktop\bus.jpg"/>
          <p:cNvPicPr/>
          <p:nvPr/>
        </p:nvPicPr>
        <p:blipFill>
          <a:blip r:embed="rId1"/>
          <a:stretch/>
        </p:blipFill>
        <p:spPr>
          <a:xfrm>
            <a:off x="1219320" y="152388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le printemps.jpg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509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1295280" y="304920"/>
            <a:ext cx="6019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Le printemp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L’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ét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Documents and Settings\Natalie\Desktop\photos trains\debout.jpg"/>
          <p:cNvPicPr/>
          <p:nvPr/>
        </p:nvPicPr>
        <p:blipFill>
          <a:blip r:embed="rId1"/>
          <a:stretch/>
        </p:blipFill>
        <p:spPr>
          <a:xfrm>
            <a:off x="914400" y="1371600"/>
            <a:ext cx="7405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L’autom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Natalie\Desktop\photos trains\le TGV.bmp"/>
          <p:cNvPicPr/>
          <p:nvPr/>
        </p:nvPicPr>
        <p:blipFill>
          <a:blip r:embed="rId1"/>
          <a:stretch/>
        </p:blipFill>
        <p:spPr>
          <a:xfrm>
            <a:off x="1066680" y="1295280"/>
            <a:ext cx="7112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 u="sng">
                <a:solidFill>
                  <a:srgbClr val="000000"/>
                </a:solidFill>
                <a:uFillTx/>
                <a:latin typeface="Calibri"/>
              </a:rPr>
              <a:t>L’hiver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Natalie\Desktop\6F27CFCF-E30E-482C-B9DE-430F2EF37650_2.jp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Il pleut, il fait mauvais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:\Documents and Settings\Natalie\Desktop\bp20051006-01-10_640x480_car.jpg"/>
          <p:cNvPicPr/>
          <p:nvPr/>
        </p:nvPicPr>
        <p:blipFill>
          <a:blip r:embed="rId1"/>
          <a:stretch/>
        </p:blipFill>
        <p:spPr>
          <a:xfrm>
            <a:off x="1600200" y="1600200"/>
            <a:ext cx="60865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il fait beau et cha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Documents and Settings\Natalie\Desktop\un avion.bmp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Il neige, il fait froi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Natalie\Desktop\bu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Il y a du vent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:\Documents and Settings\Natalie\Desktop\bp20051006-01-10_640x480_car.jpg"/>
          <p:cNvPicPr/>
          <p:nvPr/>
        </p:nvPicPr>
        <p:blipFill>
          <a:blip r:embed="rId1"/>
          <a:stretch/>
        </p:blipFill>
        <p:spPr>
          <a:xfrm>
            <a:off x="1600200" y="1727280"/>
            <a:ext cx="60865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5:34:57Z</dcterms:created>
  <dc:creator>Administrator</dc:creator>
  <dc:description/>
  <dc:language>en-US</dc:language>
  <cp:lastModifiedBy>Nathalie Lecesne-Zoukhri</cp:lastModifiedBy>
  <dcterms:modified xsi:type="dcterms:W3CDTF">2012-12-06T14:30:22Z</dcterms:modified>
  <cp:revision>23</cp:revision>
  <dc:subject/>
  <dc:title>Le printemps</dc:title>
</cp:coreProperties>
</file>